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0.wmf" ContentType="image/x-wmf"/>
  <Override PartName="/ppt/media/image51.wmf" ContentType="image/x-wmf"/>
  <Override PartName="/ppt/media/image29.png" ContentType="image/png"/>
  <Override PartName="/ppt/media/image48.png" ContentType="image/png"/>
  <Override PartName="/ppt/media/image7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9.png" ContentType="image/png"/>
  <Override PartName="/ppt/media/image42.png" ContentType="image/png"/>
  <Override PartName="/ppt/media/image41.wmf" ContentType="image/x-wmf"/>
  <Override PartName="/ppt/media/image19.png" ContentType="image/png"/>
  <Override PartName="/ppt/media/image40.wmf" ContentType="image/x-wmf"/>
  <Override PartName="/ppt/media/image35.png" ContentType="image/png"/>
  <Override PartName="/ppt/media/image33.wmf" ContentType="image/x-wmf"/>
  <Override PartName="/ppt/media/image31.wmf" ContentType="image/x-wmf"/>
  <Override PartName="/ppt/media/image30.wmf" ContentType="image/x-wmf"/>
  <Override PartName="/ppt/media/image13.wmf" ContentType="image/x-wmf"/>
  <Override PartName="/ppt/media/image39.png" ContentType="image/png"/>
  <Override PartName="/ppt/media/image61.wmf" ContentType="image/x-wmf"/>
  <Override PartName="/ppt/media/image17.wmf" ContentType="image/x-wmf"/>
  <Override PartName="/ppt/media/image5.wmf" ContentType="image/x-wmf"/>
  <Override PartName="/ppt/media/image82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22.wmf" ContentType="image/x-wmf"/>
  <Override PartName="/ppt/media/image59.wmf" ContentType="image/x-wmf"/>
  <Override PartName="/ppt/media/image24.wmf" ContentType="image/x-wmf"/>
  <Override PartName="/ppt/media/image23.wmf" ContentType="image/x-wmf"/>
  <Override PartName="/ppt/media/image62.png" ContentType="image/png"/>
  <Override PartName="/ppt/media/image60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26.png" ContentType="image/png"/>
  <Override PartName="/ppt/media/image67.wmf" ContentType="image/x-wmf"/>
  <Override PartName="/ppt/media/image68.wmf" ContentType="image/x-wmf"/>
  <Override PartName="/ppt/media/image71.wmf" ContentType="image/x-wmf"/>
  <Override PartName="/ppt/media/image1.png" ContentType="image/png"/>
  <Override PartName="/ppt/media/image69.png" ContentType="image/png"/>
  <Override PartName="/ppt/media/image72.wmf" ContentType="image/x-wmf"/>
  <Override PartName="/ppt/media/image2.png" ContentType="image/png"/>
  <Override PartName="/ppt/media/image89.wmf" ContentType="image/x-wmf"/>
  <Override PartName="/ppt/media/image77.wmf" ContentType="image/x-wmf"/>
  <Override PartName="/ppt/media/image25.wmf" ContentType="image/x-wmf"/>
  <Override PartName="/ppt/media/image90.wmf" ContentType="image/x-wmf"/>
  <Override PartName="/ppt/media/image11.wmf" ContentType="image/x-wmf"/>
  <Override PartName="/ppt/media/image88.wmf" ContentType="image/x-wmf"/>
  <Override PartName="/ppt/media/image76.wmf" ContentType="image/x-wmf"/>
  <Override PartName="/ppt/media/image87.wmf" ContentType="image/x-wmf"/>
  <Override PartName="/ppt/media/image75.wmf" ContentType="image/x-wmf"/>
  <Override PartName="/ppt/media/image86.wmf" ContentType="image/x-wmf"/>
  <Override PartName="/ppt/media/image74.wmf" ContentType="image/x-wmf"/>
  <Override PartName="/ppt/media/image79.wmf" ContentType="image/x-wmf"/>
  <Override PartName="/ppt/media/image80.wmf" ContentType="image/x-wmf"/>
  <Override PartName="/ppt/media/image78.wmf" ContentType="image/x-wmf"/>
  <Override PartName="/ppt/media/image73.wmf" ContentType="image/x-wmf"/>
  <Override PartName="/ppt/media/image21.wmf" ContentType="image/x-wmf"/>
  <Override PartName="/ppt/media/image58.wmf" ContentType="image/x-wmf"/>
  <Override PartName="/ppt/media/image20.wmf" ContentType="image/x-wmf"/>
  <Override PartName="/ppt/media/image57.wmf" ContentType="image/x-wmf"/>
  <Override PartName="/ppt/media/image32.wmf" ContentType="image/x-wmf"/>
  <Override PartName="/ppt/media/image14.wmf" ContentType="image/x-wmf"/>
  <Override PartName="/ppt/media/image27.wmf" ContentType="image/x-wmf"/>
  <Override PartName="/ppt/media/image81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83.wmf" ContentType="image/x-wmf"/>
  <Override PartName="/ppt/media/image6.wmf" ContentType="image/x-wmf"/>
  <Override PartName="/ppt/media/image36.wmf" ContentType="image/x-wmf"/>
  <Override PartName="/ppt/media/image3.png" ContentType="image/png"/>
  <Override PartName="/ppt/media/image15.png" ContentType="image/png"/>
  <Override PartName="/ppt/media/image84.wmf" ContentType="image/x-wmf"/>
  <Override PartName="/ppt/media/image7.wmf" ContentType="image/x-wmf"/>
  <Override PartName="/ppt/media/image37.wmf" ContentType="image/x-wmf"/>
  <Override PartName="/ppt/media/image55.png" ContentType="image/png"/>
  <Override PartName="/ppt/media/image12.wmf" ContentType="image/x-wmf"/>
  <Override PartName="/ppt/media/image4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D986-E23B-4411-97EC-2D2652081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61AC-ABFE-4239-AC10-48043B96B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E61C-F6FF-4127-83F6-8B86D3142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C3F8-4FF8-4799-BA66-459CFF233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9B8B-0622-4A1A-95C3-8FE504617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CA06-9CA7-4A4F-9A7F-9294667B4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90EA-DB03-47D2-A64B-4A33C7B5A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00FB-F5A2-4FD1-B9DD-214CD9818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592F-FC43-4F82-914E-50F1078BB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6C14-100D-4EB3-A814-79133FD7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153E-1D6E-48DB-BC3A-5D8C251C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792D-173E-40E0-9589-E9E3D0BD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13CBC-7CF5-45BF-8815-B7AF45AEED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tmp/home/.config/libreoffice/4/user/gallery/beep.wav" TargetMode="External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40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41.wmf"/><Relationship Id="rId10" Type="http://schemas.openxmlformats.org/officeDocument/2006/relationships/image" Target="../media/image42.png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43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44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43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44.wmf"/><Relationship Id="rId19" Type="http://schemas.openxmlformats.org/officeDocument/2006/relationships/oleObject" Target="../embeddings/oleObject7.bin"/><Relationship Id="rId20" Type="http://schemas.openxmlformats.org/officeDocument/2006/relationships/image" Target="../media/image45.wmf"/><Relationship Id="rId21" Type="http://schemas.openxmlformats.org/officeDocument/2006/relationships/oleObject" Target="../embeddings/oleObject8.bin"/><Relationship Id="rId22" Type="http://schemas.openxmlformats.org/officeDocument/2006/relationships/image" Target="../media/image46.wmf"/><Relationship Id="rId23" Type="http://schemas.openxmlformats.org/officeDocument/2006/relationships/oleObject" Target="../embeddings/oleObject9.bin"/><Relationship Id="rId24" Type="http://schemas.openxmlformats.org/officeDocument/2006/relationships/image" Target="../media/image47.wmf"/><Relationship Id="rId2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tmp/home/.config/libreoffice/4/user/gallery/beep.wav" TargetMode="External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image" Target="../media/image4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49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50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51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52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53.wmf"/><Relationship Id="rId1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tmp/home/.config/libreoffice/4/user/gallery/beep.wav" TargetMode="External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image" Target="../media/image9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4.wmf"/><Relationship Id="rId7" Type="http://schemas.openxmlformats.org/officeDocument/2006/relationships/image" Target="../media/image55.png"/><Relationship Id="rId8" Type="http://schemas.openxmlformats.org/officeDocument/2006/relationships/oleObject" Target="../embeddings/oleObject2.bin"/><Relationship Id="rId9" Type="http://schemas.openxmlformats.org/officeDocument/2006/relationships/image" Target="../media/image56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57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58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59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60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61.wmf"/><Relationship Id="rId2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tmp/home/.config/libreoffice/4/user/gallery/beep.wav" TargetMode="External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image" Target="../media/image62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63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64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65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66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67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68.wmf"/><Relationship Id="rId1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tmp/home/.config/libreoffice/4/user/gallery/beep.wav" TargetMode="External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image" Target="../media/image69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70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71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72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73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74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75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76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77.wmf"/><Relationship Id="rId22" Type="http://schemas.openxmlformats.org/officeDocument/2006/relationships/oleObject" Target="../embeddings/oleObject9.bin"/><Relationship Id="rId23" Type="http://schemas.openxmlformats.org/officeDocument/2006/relationships/image" Target="../media/image78.wmf"/><Relationship Id="rId24" Type="http://schemas.openxmlformats.org/officeDocument/2006/relationships/oleObject" Target="../embeddings/oleObject10.bin"/><Relationship Id="rId25" Type="http://schemas.openxmlformats.org/officeDocument/2006/relationships/image" Target="../media/image79.wmf"/><Relationship Id="rId2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eep.wav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4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85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86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87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88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89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90.wmf"/><Relationship Id="rId2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tmp/home/.config/libreoffice/4/user/gallery/beep.wav" TargetMode="External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image" Target="../media/image2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8.wmf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tmp/home/.config/libreoffice/4/user/gallery/beep.wav" TargetMode="External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image" Target="../media/image2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12.wmf"/><Relationship Id="rId11" Type="http://schemas.openxmlformats.org/officeDocument/2006/relationships/image" Target="../media/image9.png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3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14.wmf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tmp/home/.config/libreoffice/4/user/gallery/beep.wav" TargetMode="External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15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7.wmf"/><Relationship Id="rId11" Type="http://schemas.openxmlformats.org/officeDocument/2006/relationships/image" Target="../media/image9.png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18.wmf"/><Relationship Id="rId14" Type="http://schemas.openxmlformats.org/officeDocument/2006/relationships/image" Target="../media/image19.png"/><Relationship Id="rId15" Type="http://schemas.openxmlformats.org/officeDocument/2006/relationships/oleObject" Target="../embeddings/oleObject4.bin"/><Relationship Id="rId16" Type="http://schemas.openxmlformats.org/officeDocument/2006/relationships/image" Target="../media/image20.wmf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tmp/home/.config/libreoffice/4/user/gallery/beep.wav" TargetMode="External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image" Target="../media/image2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22.wmf"/><Relationship Id="rId9" Type="http://schemas.openxmlformats.org/officeDocument/2006/relationships/image" Target="../media/image9.png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23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24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25.wmf"/><Relationship Id="rId16" Type="http://schemas.openxmlformats.org/officeDocument/2006/relationships/image" Target="../media/image26.png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tmp/home/.config/libreoffice/4/user/gallery/beep.wav" TargetMode="External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15.png"/><Relationship Id="rId7" Type="http://schemas.openxmlformats.org/officeDocument/2006/relationships/image" Target="../media/image9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27.wmf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28.wmf"/><Relationship Id="rId12" Type="http://schemas.openxmlformats.org/officeDocument/2006/relationships/image" Target="../media/image29.png"/><Relationship Id="rId13" Type="http://schemas.openxmlformats.org/officeDocument/2006/relationships/oleObject" Target="../embeddings/oleObject3.bin"/><Relationship Id="rId14" Type="http://schemas.openxmlformats.org/officeDocument/2006/relationships/image" Target="../media/image20.wmf"/><Relationship Id="rId15" Type="http://schemas.openxmlformats.org/officeDocument/2006/relationships/oleObject" Target="../embeddings/oleObject4.bin"/><Relationship Id="rId16" Type="http://schemas.openxmlformats.org/officeDocument/2006/relationships/image" Target="../media/image30.wmf"/><Relationship Id="rId17" Type="http://schemas.openxmlformats.org/officeDocument/2006/relationships/oleObject" Target="../embeddings/oleObject5.bin"/><Relationship Id="rId18" Type="http://schemas.openxmlformats.org/officeDocument/2006/relationships/image" Target="../media/image31.wmf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tmp/home/.config/libreoffice/4/user/gallery/beep.wav" TargetMode="External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2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33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34.wmf"/><Relationship Id="rId12" Type="http://schemas.openxmlformats.org/officeDocument/2006/relationships/image" Target="../media/image35.pn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tmp/home/.config/libreoffice/4/user/gallery/beep.wav" TargetMode="External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6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37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38.wmf"/><Relationship Id="rId12" Type="http://schemas.openxmlformats.org/officeDocument/2006/relationships/image" Target="../media/image39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2209680"/>
            <a:ext cx="7772400" cy="101124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igher Mat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581280"/>
            <a:ext cx="91440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762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www.maths4scotland.co.u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267080" y="5407200"/>
            <a:ext cx="549360" cy="536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606120" y="601992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205160"/>
            <a:ext cx="9144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traight 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5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5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250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>
            <a:hlinkClick r:id="" action="ppaction://hlinkshowjump?jump=nextslide"/>
            <a:hlinkClick r:id="rId2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>
            <a:hlinkClick r:id="" action="ppaction://hlinkshowjump?jump=previousslide"/>
            <a:hlinkClick r:id="rId3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449280" y="765360"/>
            <a:ext cx="7496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ines                     and                    ma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gles of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and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e  posi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ion of the x-axis, as shown in the diagra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he values of  a  and  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ind the acute ang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the two given lin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5"/>
          <a:stretch/>
        </p:blipFill>
        <p:spPr>
          <a:xfrm>
            <a:off x="4336920" y="4871880"/>
            <a:ext cx="619200" cy="619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2" name=""/>
          <p:cNvGraphicFramePr/>
          <p:nvPr/>
        </p:nvGraphicFramePr>
        <p:xfrm>
          <a:off x="3903840" y="3106800"/>
          <a:ext cx="664920" cy="323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03840" y="3106800"/>
                    <a:ext cx="664920" cy="32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"/>
          <p:cNvSpPr/>
          <p:nvPr/>
        </p:nvSpPr>
        <p:spPr>
          <a:xfrm>
            <a:off x="514440" y="4397400"/>
            <a:ext cx="23112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supplement of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3127320" y="4402080"/>
          <a:ext cx="2297160" cy="3715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127320" y="4402080"/>
                    <a:ext cx="229716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7" name="" descr=""/>
          <p:cNvPicPr/>
          <p:nvPr/>
        </p:nvPicPr>
        <p:blipFill>
          <a:blip r:embed="rId10"/>
          <a:stretch/>
        </p:blipFill>
        <p:spPr>
          <a:xfrm>
            <a:off x="6046920" y="846000"/>
            <a:ext cx="2676240" cy="2143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8" name=""/>
          <p:cNvGraphicFramePr/>
          <p:nvPr/>
        </p:nvGraphicFramePr>
        <p:xfrm>
          <a:off x="1655640" y="816120"/>
          <a:ext cx="1289160" cy="392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55640" y="816120"/>
                    <a:ext cx="128916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3571920" y="811080"/>
          <a:ext cx="1217520" cy="382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571920" y="811080"/>
                    <a:ext cx="121752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2" name=""/>
          <p:cNvGrpSpPr/>
          <p:nvPr/>
        </p:nvGrpSpPr>
        <p:grpSpPr>
          <a:xfrm>
            <a:off x="484200" y="3078000"/>
            <a:ext cx="3214800" cy="395280"/>
            <a:chOff x="484200" y="3078000"/>
            <a:chExt cx="3214800" cy="395280"/>
          </a:xfrm>
        </p:grpSpPr>
        <p:sp>
          <p:nvSpPr>
            <p:cNvPr id="273" name=""/>
            <p:cNvSpPr/>
            <p:nvPr/>
          </p:nvSpPr>
          <p:spPr>
            <a:xfrm>
              <a:off x="484200" y="3105000"/>
              <a:ext cx="3214800" cy="368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nd gradient of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74" name=""/>
            <p:cNvGraphicFramePr/>
            <p:nvPr/>
          </p:nvGraphicFramePr>
          <p:xfrm>
            <a:off x="2249640" y="3078000"/>
            <a:ext cx="1289160" cy="3924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75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249640" y="3078000"/>
                      <a:ext cx="1289160" cy="39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76" name=""/>
          <p:cNvGrpSpPr/>
          <p:nvPr/>
        </p:nvGrpSpPr>
        <p:grpSpPr>
          <a:xfrm>
            <a:off x="500040" y="3747960"/>
            <a:ext cx="3214800" cy="384120"/>
            <a:chOff x="500040" y="3747960"/>
            <a:chExt cx="3214800" cy="384120"/>
          </a:xfrm>
        </p:grpSpPr>
        <p:sp>
          <p:nvSpPr>
            <p:cNvPr id="277" name=""/>
            <p:cNvSpPr/>
            <p:nvPr/>
          </p:nvSpPr>
          <p:spPr>
            <a:xfrm>
              <a:off x="500040" y="3763800"/>
              <a:ext cx="3214800" cy="368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nd gradient of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78" name=""/>
            <p:cNvGraphicFramePr/>
            <p:nvPr/>
          </p:nvGraphicFramePr>
          <p:xfrm>
            <a:off x="2365560" y="3747960"/>
            <a:ext cx="1217520" cy="38268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79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365560" y="3747960"/>
                      <a:ext cx="1217520" cy="38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80" name=""/>
          <p:cNvGraphicFramePr/>
          <p:nvPr/>
        </p:nvGraphicFramePr>
        <p:xfrm>
          <a:off x="3903840" y="3763800"/>
          <a:ext cx="772920" cy="3240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903840" y="3763800"/>
                    <a:ext cx="7729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>
            <a:off x="5039640" y="3087720"/>
            <a:ext cx="9061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6313320" y="3111480"/>
          <a:ext cx="2489400" cy="3700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313320" y="3111480"/>
                    <a:ext cx="2489400" cy="3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"/>
          <p:cNvSpPr/>
          <p:nvPr/>
        </p:nvSpPr>
        <p:spPr>
          <a:xfrm>
            <a:off x="5052240" y="3768840"/>
            <a:ext cx="9061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b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6229440" y="3792600"/>
          <a:ext cx="2682720" cy="3697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229440" y="3792600"/>
                    <a:ext cx="268272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"/>
          <p:cNvSpPr/>
          <p:nvPr/>
        </p:nvSpPr>
        <p:spPr>
          <a:xfrm>
            <a:off x="496800" y="5064120"/>
            <a:ext cx="27100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le between two 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621400" y="4394160"/>
            <a:ext cx="32623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angle sum triangle = 180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449880" y="500076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2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293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>
            <a:hlinkClick r:id="" action="ppaction://hlinkshowjump?jump=nextslide"/>
            <a:hlinkClick r:id="rId2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>
            <a:hlinkClick r:id="" action="ppaction://hlinkshowjump?jump=previousslide"/>
            <a:hlinkClick r:id="rId3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4"/>
          <a:stretch/>
        </p:blipFill>
        <p:spPr>
          <a:xfrm>
            <a:off x="6622920" y="701640"/>
            <a:ext cx="2141640" cy="181764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420840" y="911160"/>
            <a:ext cx="6248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riangle ABC  has vertices A(–1, 6), B(–3, –2) and C(5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in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)  the equation of the line 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, the median from C of triangle ABC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b)  the equation of the line 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, the perpendicular bisector of BC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)  the co-ordinates of the point of intersection of the lines 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5"/>
          <a:stretch/>
        </p:blipFill>
        <p:spPr>
          <a:xfrm>
            <a:off x="6499080" y="505296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484200" y="2747880"/>
            <a:ext cx="23875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mid-point of AB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00040" y="3306600"/>
            <a:ext cx="21556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equation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3151080" y="3298680"/>
          <a:ext cx="622440" cy="370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151080" y="3298680"/>
                    <a:ext cx="622440" cy="3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"/>
          <p:cNvSpPr/>
          <p:nvPr/>
        </p:nvSpPr>
        <p:spPr>
          <a:xfrm>
            <a:off x="4503600" y="2759040"/>
            <a:ext cx="19562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gradient of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040920" y="272556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-2, 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11200" y="3908520"/>
            <a:ext cx="23875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mid-point of BC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068640" y="38862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503600" y="3903840"/>
            <a:ext cx="21466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gradient of 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6862680" y="3718080"/>
          <a:ext cx="687600" cy="717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862680" y="3718080"/>
                    <a:ext cx="68760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6794640" y="2763720"/>
          <a:ext cx="644400" cy="324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794640" y="2763720"/>
                    <a:ext cx="64440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>
            <a:off x="539640" y="4527720"/>
            <a:ext cx="19558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gradient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2844720" y="4551480"/>
          <a:ext cx="795240" cy="3254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844720" y="4551480"/>
                    <a:ext cx="79524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"/>
          <p:cNvSpPr/>
          <p:nvPr/>
        </p:nvSpPr>
        <p:spPr>
          <a:xfrm>
            <a:off x="4503600" y="4540320"/>
            <a:ext cx="21560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equation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908760" y="4532400"/>
          <a:ext cx="1114560" cy="3697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908760" y="4532400"/>
                    <a:ext cx="111456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4" name=""/>
          <p:cNvSpPr/>
          <p:nvPr/>
        </p:nvSpPr>
        <p:spPr>
          <a:xfrm>
            <a:off x="523800" y="5205240"/>
            <a:ext cx="48132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ve p and q simultaneously for inter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530680" y="51624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0, 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328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>
            <a:hlinkClick r:id="" action="ppaction://hlinkshowjump?jump=nextslide"/>
            <a:hlinkClick r:id="rId2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>
            <a:hlinkClick r:id="" action="ppaction://hlinkshowjump?jump=previousslide"/>
            <a:hlinkClick r:id="rId3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49280" y="677520"/>
            <a:ext cx="5958000" cy="18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riangle ABC has vertices A(2, 2), B(12, 2) and C(8, 6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)  Write down the equation o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, the perpendicular bisector of 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b)  Find the equation o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, the perpendicular bisector of AC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)  Find the point of intersection of line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)  Hence find the equation of the circle passing through A, B and C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4"/>
          <a:stretch/>
        </p:blipFill>
        <p:spPr>
          <a:xfrm>
            <a:off x="5499000" y="5251320"/>
            <a:ext cx="619200" cy="619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9" name=""/>
          <p:cNvGraphicFramePr/>
          <p:nvPr/>
        </p:nvGraphicFramePr>
        <p:xfrm>
          <a:off x="2373480" y="2624040"/>
          <a:ext cx="706320" cy="462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73480" y="2624040"/>
                    <a:ext cx="706320" cy="4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"/>
          <p:cNvSpPr/>
          <p:nvPr/>
        </p:nvSpPr>
        <p:spPr>
          <a:xfrm>
            <a:off x="484200" y="2676600"/>
            <a:ext cx="16765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-point 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00040" y="3235320"/>
            <a:ext cx="2097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mid-point AC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7"/>
          <a:stretch/>
        </p:blipFill>
        <p:spPr>
          <a:xfrm>
            <a:off x="6357960" y="925560"/>
            <a:ext cx="2521080" cy="157788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2869560" y="318132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5,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03600" y="3218040"/>
            <a:ext cx="21466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gradient of 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6919920" y="3032280"/>
          <a:ext cx="687240" cy="717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919920" y="3032280"/>
                    <a:ext cx="68724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"/>
          <p:cNvSpPr/>
          <p:nvPr/>
        </p:nvSpPr>
        <p:spPr>
          <a:xfrm>
            <a:off x="4129200" y="3800520"/>
            <a:ext cx="27795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qu. of perp. bisector 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4075200" y="4890960"/>
          <a:ext cx="900000" cy="4161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075200" y="4890960"/>
                    <a:ext cx="9000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96080" y="3813120"/>
            <a:ext cx="20203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adient AC per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2816280" y="3627360"/>
          <a:ext cx="880920" cy="717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816280" y="3627360"/>
                    <a:ext cx="88092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4" name=""/>
          <p:cNvGraphicFramePr/>
          <p:nvPr/>
        </p:nvGraphicFramePr>
        <p:xfrm>
          <a:off x="7134120" y="3811680"/>
          <a:ext cx="1352520" cy="3697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134120" y="3811680"/>
                    <a:ext cx="135252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6" name=""/>
          <p:cNvSpPr/>
          <p:nvPr/>
        </p:nvSpPr>
        <p:spPr>
          <a:xfrm>
            <a:off x="527040" y="4381560"/>
            <a:ext cx="23446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 of inter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115800" y="432576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7,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130640" y="4384800"/>
            <a:ext cx="281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is the centre of cir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9640" y="4932360"/>
            <a:ext cx="32734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radius (intersection to 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39640" y="5445000"/>
            <a:ext cx="21258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tion of circ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2814480" y="5380200"/>
          <a:ext cx="2400480" cy="5079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814480" y="5380200"/>
                    <a:ext cx="240048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" name=""/>
          <p:cNvGraphicFramePr/>
          <p:nvPr/>
        </p:nvGraphicFramePr>
        <p:xfrm>
          <a:off x="6873840" y="2646360"/>
          <a:ext cx="600120" cy="3240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6873840" y="2646360"/>
                    <a:ext cx="6001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"/>
          <p:cNvSpPr/>
          <p:nvPr/>
        </p:nvSpPr>
        <p:spPr>
          <a:xfrm>
            <a:off x="3467160" y="2644920"/>
            <a:ext cx="32148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pendicular bisector 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368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">
            <a:hlinkClick r:id="" action="ppaction://hlinkshowjump?jump=nextslide"/>
            <a:hlinkClick r:id="rId2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>
            <a:hlinkClick r:id="" action="ppaction://hlinkshowjump?jump=previousslide"/>
            <a:hlinkClick r:id="rId3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4"/>
          <a:stretch/>
        </p:blipFill>
        <p:spPr>
          <a:xfrm>
            <a:off x="5942160" y="711360"/>
            <a:ext cx="2781000" cy="1854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449280" y="879120"/>
            <a:ext cx="5958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 triangle ABC has vertices A(–4, 1), B(12,3) and C(7, –7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)   Find the equation of the median CM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b)   Find the equation of the altitude A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)   Find the co-ordinates of the point of intersection of CM and A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5"/>
          <a:stretch/>
        </p:blipFill>
        <p:spPr>
          <a:xfrm>
            <a:off x="6818400" y="4873680"/>
            <a:ext cx="619200" cy="619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0" name=""/>
          <p:cNvGraphicFramePr/>
          <p:nvPr/>
        </p:nvGraphicFramePr>
        <p:xfrm>
          <a:off x="2373480" y="2624040"/>
          <a:ext cx="706320" cy="462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373480" y="2624040"/>
                    <a:ext cx="706320" cy="4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2" name=""/>
          <p:cNvSpPr/>
          <p:nvPr/>
        </p:nvSpPr>
        <p:spPr>
          <a:xfrm>
            <a:off x="484200" y="2676600"/>
            <a:ext cx="16765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-point 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00040" y="3235320"/>
            <a:ext cx="27655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tion of median CM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780000" y="3800520"/>
            <a:ext cx="3375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dient of perpendicular 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96080" y="3813120"/>
            <a:ext cx="14364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dient 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2532240" y="3824280"/>
          <a:ext cx="666720" cy="324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532240" y="3824280"/>
                    <a:ext cx="666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8" name=""/>
          <p:cNvGraphicFramePr/>
          <p:nvPr/>
        </p:nvGraphicFramePr>
        <p:xfrm>
          <a:off x="7370640" y="3624120"/>
          <a:ext cx="879480" cy="7160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370640" y="3624120"/>
                    <a:ext cx="87948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0" name=""/>
          <p:cNvSpPr/>
          <p:nvPr/>
        </p:nvSpPr>
        <p:spPr>
          <a:xfrm>
            <a:off x="527040" y="4381560"/>
            <a:ext cx="23446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tion of 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6081840" y="2674800"/>
          <a:ext cx="792000" cy="3240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081840" y="2674800"/>
                    <a:ext cx="79200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"/>
          <p:cNvSpPr/>
          <p:nvPr/>
        </p:nvSpPr>
        <p:spPr>
          <a:xfrm>
            <a:off x="3467160" y="2657520"/>
            <a:ext cx="24606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dient CM (medi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3463920" y="3191040"/>
          <a:ext cx="1203480" cy="3697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463920" y="3191040"/>
                    <a:ext cx="120348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"/>
          <p:cNvSpPr/>
          <p:nvPr/>
        </p:nvSpPr>
        <p:spPr>
          <a:xfrm>
            <a:off x="527040" y="5013360"/>
            <a:ext cx="50148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ve simultaneously for point of inter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685480" y="494352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6, -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3043080" y="4379760"/>
          <a:ext cx="1576440" cy="3985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043080" y="4379760"/>
                    <a:ext cx="157644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500"/>
                            </p:stCondLst>
                            <p:childTnLst>
                              <p:par>
                                <p:cTn id="6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402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4" name="">
            <a:hlinkClick r:id="" action="ppaction://hlinkshowjump?jump=nextslide"/>
            <a:hlinkClick r:id="rId2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>
            <a:hlinkClick r:id="" action="ppaction://hlinkshowjump?jump=previousslide"/>
            <a:hlinkClick r:id="rId3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4"/>
          <a:stretch/>
        </p:blipFill>
        <p:spPr>
          <a:xfrm>
            <a:off x="5656320" y="812880"/>
            <a:ext cx="2971800" cy="16524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449280" y="385920"/>
            <a:ext cx="595800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 triangle ABC has vertices A(–3, –3), B(–1, 1) and C(7,–3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)   Show that the triangle ABC is right angled at B.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b)   The medians AD and BE intersect at 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)   Find the equations of AD and BE.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i)  Hence find the co-ordinates of M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5"/>
          <a:stretch/>
        </p:blipFill>
        <p:spPr>
          <a:xfrm>
            <a:off x="7094520" y="4873680"/>
            <a:ext cx="619200" cy="619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4" name=""/>
          <p:cNvGraphicFramePr/>
          <p:nvPr/>
        </p:nvGraphicFramePr>
        <p:xfrm>
          <a:off x="2394000" y="2692440"/>
          <a:ext cx="663480" cy="323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394000" y="2692440"/>
                    <a:ext cx="663480" cy="32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484200" y="2676600"/>
            <a:ext cx="16765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dient 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0040" y="3235320"/>
            <a:ext cx="23004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t of grad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716200" y="3786120"/>
            <a:ext cx="21416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Gradient of median 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97880" y="3811680"/>
            <a:ext cx="12596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id-point 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1800360" y="3797280"/>
          <a:ext cx="657000" cy="405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800360" y="3797280"/>
                    <a:ext cx="657000" cy="4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2" name=""/>
          <p:cNvGraphicFramePr/>
          <p:nvPr/>
        </p:nvGraphicFramePr>
        <p:xfrm>
          <a:off x="5021280" y="3666960"/>
          <a:ext cx="601560" cy="628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021280" y="3666960"/>
                    <a:ext cx="601560" cy="6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4" name=""/>
          <p:cNvSpPr/>
          <p:nvPr/>
        </p:nvSpPr>
        <p:spPr>
          <a:xfrm>
            <a:off x="5927760" y="3801960"/>
            <a:ext cx="12999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quation 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5240160" y="2478240"/>
          <a:ext cx="878040" cy="717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2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240160" y="2478240"/>
                    <a:ext cx="87804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"/>
          <p:cNvSpPr/>
          <p:nvPr/>
        </p:nvSpPr>
        <p:spPr>
          <a:xfrm>
            <a:off x="3467160" y="2657520"/>
            <a:ext cx="15588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dient 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2903400" y="3119400"/>
          <a:ext cx="1401840" cy="615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903400" y="3119400"/>
                    <a:ext cx="140184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0" name=""/>
          <p:cNvSpPr/>
          <p:nvPr/>
        </p:nvSpPr>
        <p:spPr>
          <a:xfrm>
            <a:off x="500040" y="5027760"/>
            <a:ext cx="51166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ve simultaneously for M, point of inter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7375680" y="3800520"/>
          <a:ext cx="1376280" cy="3524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375680" y="3800520"/>
                    <a:ext cx="13762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3" name=""/>
          <p:cNvSpPr/>
          <p:nvPr/>
        </p:nvSpPr>
        <p:spPr>
          <a:xfrm>
            <a:off x="4539240" y="3238560"/>
            <a:ext cx="420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nce AB is perpendicular to BC, so B = 90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716200" y="4335480"/>
            <a:ext cx="21416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Gradient of median 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97880" y="4361040"/>
            <a:ext cx="12596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id-point 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1790640" y="4346640"/>
          <a:ext cx="676440" cy="4046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790640" y="4346640"/>
                    <a:ext cx="67644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8" name=""/>
          <p:cNvGraphicFramePr/>
          <p:nvPr/>
        </p:nvGraphicFramePr>
        <p:xfrm>
          <a:off x="4937040" y="4216320"/>
          <a:ext cx="771480" cy="6285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439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4937040" y="4216320"/>
                    <a:ext cx="77148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0" name=""/>
          <p:cNvSpPr/>
          <p:nvPr/>
        </p:nvSpPr>
        <p:spPr>
          <a:xfrm>
            <a:off x="5927760" y="4351320"/>
            <a:ext cx="12999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quation 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7334280" y="4349880"/>
          <a:ext cx="1458720" cy="35244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7334280" y="4349880"/>
                    <a:ext cx="145872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3" name=""/>
          <p:cNvGraphicFramePr/>
          <p:nvPr/>
        </p:nvGraphicFramePr>
        <p:xfrm>
          <a:off x="5684760" y="4853160"/>
          <a:ext cx="809640" cy="68868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444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5684760" y="4853160"/>
                    <a:ext cx="809640" cy="68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500"/>
                            </p:stCondLst>
                            <p:childTnLst>
                              <p:par>
                                <p:cTn id="7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>
            <a:hlinkClick r:id="" action="ppaction://hlinkshowjump?jump=previousslide"/>
            <a:hlinkClick r:id="rId1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3084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have completed all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questions in this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>
            <a:hlinkClick r:id="rId2" action="ppaction://hlinksldjump"/>
          </p:cNvPr>
          <p:cNvSpPr/>
          <p:nvPr/>
        </p:nvSpPr>
        <p:spPr>
          <a:xfrm>
            <a:off x="7450200" y="5770440"/>
            <a:ext cx="1160280" cy="341280"/>
          </a:xfrm>
          <a:custGeom>
            <a:avLst/>
            <a:gdLst>
              <a:gd name="textAreaLeft" fmla="*/ 203040 w 1160280"/>
              <a:gd name="textAreaRight" fmla="*/ 841320 w 1160280"/>
              <a:gd name="textAreaTop" fmla="*/ 45720 h 341280"/>
              <a:gd name="textAreaBottom" fmla="*/ 295560 h 34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386480" y="6242040"/>
            <a:ext cx="13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Back to 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>
            <a:hlinkClick r:id="" action="ppaction://hlinkshowjump?jump=previousslide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921600" y="615780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8247240" y="5889600"/>
            <a:ext cx="576000" cy="773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8" name=""/>
          <p:cNvGraphicFramePr/>
          <p:nvPr/>
        </p:nvGraphicFramePr>
        <p:xfrm>
          <a:off x="1698480" y="1682640"/>
          <a:ext cx="5827680" cy="3835440"/>
        </p:xfrm>
        <a:graphic>
          <a:graphicData uri="http://schemas.openxmlformats.org/drawingml/2006/table">
            <a:tbl>
              <a:tblPr/>
              <a:tblGrid>
                <a:gridCol w="1456920"/>
                <a:gridCol w="1456920"/>
                <a:gridCol w="1456560"/>
                <a:gridCol w="1457280"/>
              </a:tblGrid>
              <a:tr h="76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9" name=""/>
          <p:cNvGraphicFramePr/>
          <p:nvPr/>
        </p:nvGraphicFramePr>
        <p:xfrm>
          <a:off x="3695760" y="2463840"/>
          <a:ext cx="312840" cy="74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95760" y="2463840"/>
                    <a:ext cx="312840" cy="74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1" name=""/>
          <p:cNvGraphicFramePr/>
          <p:nvPr/>
        </p:nvGraphicFramePr>
        <p:xfrm>
          <a:off x="5175360" y="2449440"/>
          <a:ext cx="312480" cy="746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75360" y="2449440"/>
                    <a:ext cx="31248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"/>
          <p:cNvGraphicFramePr/>
          <p:nvPr/>
        </p:nvGraphicFramePr>
        <p:xfrm>
          <a:off x="6599160" y="2449440"/>
          <a:ext cx="312840" cy="746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599160" y="2449440"/>
                    <a:ext cx="31284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5" name=""/>
          <p:cNvGraphicFramePr/>
          <p:nvPr/>
        </p:nvGraphicFramePr>
        <p:xfrm>
          <a:off x="6667560" y="3997440"/>
          <a:ext cx="288720" cy="745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667560" y="3997440"/>
                    <a:ext cx="288720" cy="74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7" name=""/>
          <p:cNvGraphicFramePr/>
          <p:nvPr/>
        </p:nvGraphicFramePr>
        <p:xfrm>
          <a:off x="3722760" y="3230640"/>
          <a:ext cx="288720" cy="745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722760" y="3230640"/>
                    <a:ext cx="288720" cy="74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9" name=""/>
          <p:cNvGraphicFramePr/>
          <p:nvPr/>
        </p:nvGraphicFramePr>
        <p:xfrm>
          <a:off x="6529320" y="3220920"/>
          <a:ext cx="455760" cy="7732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529320" y="3220920"/>
                    <a:ext cx="455760" cy="7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1" name=""/>
          <p:cNvGraphicFramePr/>
          <p:nvPr/>
        </p:nvGraphicFramePr>
        <p:xfrm>
          <a:off x="3625920" y="4002120"/>
          <a:ext cx="455400" cy="7729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625920" y="4002120"/>
                    <a:ext cx="455400" cy="77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3" name=""/>
          <p:cNvGraphicFramePr/>
          <p:nvPr/>
        </p:nvGraphicFramePr>
        <p:xfrm>
          <a:off x="5121360" y="3219480"/>
          <a:ext cx="477720" cy="7509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474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121360" y="3219480"/>
                    <a:ext cx="47772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5" name=""/>
          <p:cNvGraphicFramePr/>
          <p:nvPr/>
        </p:nvGraphicFramePr>
        <p:xfrm>
          <a:off x="5121360" y="4000680"/>
          <a:ext cx="477720" cy="7506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476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121360" y="4000680"/>
                    <a:ext cx="477720" cy="75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7" name=""/>
          <p:cNvGraphicFramePr/>
          <p:nvPr/>
        </p:nvGraphicFramePr>
        <p:xfrm>
          <a:off x="3666960" y="4754520"/>
          <a:ext cx="455760" cy="7509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3666960" y="4754520"/>
                    <a:ext cx="45576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9" name=""/>
          <p:cNvGraphicFramePr/>
          <p:nvPr/>
        </p:nvGraphicFramePr>
        <p:xfrm>
          <a:off x="6539040" y="4842000"/>
          <a:ext cx="556920" cy="55692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480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6539040" y="4842000"/>
                    <a:ext cx="556920" cy="55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1" name=""/>
          <p:cNvSpPr/>
          <p:nvPr/>
        </p:nvSpPr>
        <p:spPr>
          <a:xfrm>
            <a:off x="0" y="9795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of exact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322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raight Li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5048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questions are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608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calculator questions will be indic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267080" y="5181480"/>
            <a:ext cx="549360" cy="536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200400" y="58672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686720" y="3330720"/>
            <a:ext cx="747720" cy="10033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4367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will need a pencil, paper, ruler and rubb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>
            <a:hlinkClick r:id="" action="ppaction://hlinkshowjump?jump=nextslide"/>
            <a:hlinkClick r:id="rId2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" action="ppaction://hlinkshowjump?jump=previousslide"/>
            <a:hlinkClick r:id="rId3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22360" y="951480"/>
            <a:ext cx="810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ind the equation of the line which passes through the point (-1, 3) and is perpendicular to the line with equ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5803920" y="1465200"/>
          <a:ext cx="1682640" cy="401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03920" y="1465200"/>
                    <a:ext cx="168264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578520" y="2444760"/>
            <a:ext cx="28555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gradient of given lin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675240" y="2448000"/>
          <a:ext cx="4790880" cy="376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75240" y="2448000"/>
                    <a:ext cx="479088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621000" y="3124080"/>
            <a:ext cx="32727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gradient of perpendicula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289400" y="2990880"/>
          <a:ext cx="790560" cy="627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89400" y="2990880"/>
                    <a:ext cx="79056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646200" y="3921120"/>
            <a:ext cx="16254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equa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595600" y="3762360"/>
          <a:ext cx="5487840" cy="735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95600" y="3762360"/>
                    <a:ext cx="5487840" cy="7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3505320" y="4859280"/>
          <a:ext cx="1834920" cy="401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505320" y="4859280"/>
                    <a:ext cx="183492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1" name="" descr=""/>
          <p:cNvPicPr/>
          <p:nvPr/>
        </p:nvPicPr>
        <p:blipFill>
          <a:blip r:embed="rId15"/>
          <a:stretch/>
        </p:blipFill>
        <p:spPr>
          <a:xfrm>
            <a:off x="5743440" y="4657680"/>
            <a:ext cx="61920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84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>
            <a:hlinkClick r:id="" action="ppaction://hlinkshowjump?jump=nextslide"/>
            <a:hlinkClick r:id="rId2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previousslide"/>
            <a:hlinkClick r:id="rId3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22360" y="951480"/>
            <a:ext cx="810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he equation of the straight line which is parallel to the line with equation                         and which passes through the point (2, –1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8520" y="2444760"/>
            <a:ext cx="28555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gradient of given lin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0280" y="3124080"/>
            <a:ext cx="34390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dient of parallel line is sam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416480" y="2990880"/>
          <a:ext cx="995400" cy="627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6480" y="2990880"/>
                    <a:ext cx="99540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646200" y="3921120"/>
            <a:ext cx="16254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equa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500200" y="3789360"/>
          <a:ext cx="4419720" cy="723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00200" y="3789360"/>
                    <a:ext cx="441972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3720960" y="4859280"/>
          <a:ext cx="1401840" cy="401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20960" y="4859280"/>
                    <a:ext cx="140184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4" name="" descr=""/>
          <p:cNvPicPr/>
          <p:nvPr/>
        </p:nvPicPr>
        <p:blipFill>
          <a:blip r:embed="rId11"/>
          <a:stretch/>
        </p:blipFill>
        <p:spPr>
          <a:xfrm>
            <a:off x="5743440" y="4657680"/>
            <a:ext cx="619200" cy="619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1697040" y="1455840"/>
          <a:ext cx="1508040" cy="4158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697040" y="1455840"/>
                    <a:ext cx="150804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3608280" y="2338560"/>
          <a:ext cx="5078520" cy="6109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608280" y="2338560"/>
                    <a:ext cx="5078520" cy="61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>
            <a:hlinkClick r:id="" action="ppaction://hlinkshowjump?jump=nextslide"/>
            <a:hlinkClick r:id="rId2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previousslide"/>
            <a:hlinkClick r:id="rId3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611440" y="6012000"/>
            <a:ext cx="423720" cy="3999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937160" y="63770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 Narrow"/>
              </a:rPr>
              <a:t>Table of exact val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8120" y="2847960"/>
            <a:ext cx="26283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gradient of the lin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849400" y="3525840"/>
          <a:ext cx="1312920" cy="758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49400" y="3525840"/>
                    <a:ext cx="131292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704880" y="4761000"/>
            <a:ext cx="27302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able of exact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670200" y="4557600"/>
          <a:ext cx="2586240" cy="768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70200" y="4557600"/>
                    <a:ext cx="2586240" cy="7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9" name="" descr=""/>
          <p:cNvPicPr/>
          <p:nvPr/>
        </p:nvPicPr>
        <p:blipFill>
          <a:blip r:embed="rId11"/>
          <a:stretch/>
        </p:blipFill>
        <p:spPr>
          <a:xfrm>
            <a:off x="6732720" y="4627440"/>
            <a:ext cx="618840" cy="619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0" name=""/>
          <p:cNvGraphicFramePr/>
          <p:nvPr/>
        </p:nvGraphicFramePr>
        <p:xfrm>
          <a:off x="3654360" y="2644920"/>
          <a:ext cx="3579840" cy="7664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654360" y="2644920"/>
                    <a:ext cx="3579840" cy="76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2" name="" descr=""/>
          <p:cNvPicPr/>
          <p:nvPr/>
        </p:nvPicPr>
        <p:blipFill>
          <a:blip r:embed="rId14"/>
          <a:stretch/>
        </p:blipFill>
        <p:spPr>
          <a:xfrm>
            <a:off x="6373800" y="801720"/>
            <a:ext cx="2479680" cy="1693800"/>
          </a:xfrm>
          <a:prstGeom prst="rect">
            <a:avLst/>
          </a:prstGeom>
          <a:ln w="0">
            <a:noFill/>
          </a:ln>
        </p:spPr>
      </p:pic>
      <p:grpSp>
        <p:nvGrpSpPr>
          <p:cNvPr id="133" name=""/>
          <p:cNvGrpSpPr/>
          <p:nvPr/>
        </p:nvGrpSpPr>
        <p:grpSpPr>
          <a:xfrm>
            <a:off x="684360" y="3697200"/>
            <a:ext cx="1866240" cy="372960"/>
            <a:chOff x="684360" y="3697200"/>
            <a:chExt cx="1866240" cy="372960"/>
          </a:xfrm>
        </p:grpSpPr>
        <p:sp>
          <p:nvSpPr>
            <p:cNvPr id="134" name=""/>
            <p:cNvSpPr/>
            <p:nvPr/>
          </p:nvSpPr>
          <p:spPr>
            <a:xfrm>
              <a:off x="684360" y="3701880"/>
              <a:ext cx="1866240" cy="368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e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5" name=""/>
            <p:cNvGraphicFramePr/>
            <p:nvPr/>
          </p:nvGraphicFramePr>
          <p:xfrm>
            <a:off x="1325520" y="3697200"/>
            <a:ext cx="1055520" cy="3081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36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325520" y="3697200"/>
                      <a:ext cx="1055520" cy="30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7" name=""/>
          <p:cNvSpPr/>
          <p:nvPr/>
        </p:nvSpPr>
        <p:spPr>
          <a:xfrm>
            <a:off x="522360" y="746280"/>
            <a:ext cx="6057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he size of the angle a° that the line joining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ints A(0, -1) and B(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, 2) makes with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ve direction of the x-axi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140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>
            <a:hlinkClick r:id="" action="ppaction://hlinkshowjump?jump=nextslide"/>
            <a:hlinkClick r:id="rId2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" action="ppaction://hlinkshowjump?jump=previousslide"/>
            <a:hlinkClick r:id="rId3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49280" y="645120"/>
            <a:ext cx="6057720" cy="18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and B are the points (–3, –1) and (5, 5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he equ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ine AB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erpendicular bisector of A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35960" y="2847960"/>
            <a:ext cx="25794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gradient of the AB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7043760" y="2840040"/>
          <a:ext cx="1319040" cy="351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43760" y="2840040"/>
                    <a:ext cx="1319040" cy="3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447120" y="3673440"/>
            <a:ext cx="22489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mid-point of 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3130560" y="3656160"/>
          <a:ext cx="660240" cy="465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30560" y="3656160"/>
                    <a:ext cx="66024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7" name="" descr=""/>
          <p:cNvPicPr/>
          <p:nvPr/>
        </p:nvPicPr>
        <p:blipFill>
          <a:blip r:embed="rId9"/>
          <a:stretch/>
        </p:blipFill>
        <p:spPr>
          <a:xfrm>
            <a:off x="5745240" y="4830840"/>
            <a:ext cx="619200" cy="619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"/>
          <p:cNvGraphicFramePr/>
          <p:nvPr/>
        </p:nvGraphicFramePr>
        <p:xfrm>
          <a:off x="3333600" y="2639880"/>
          <a:ext cx="773280" cy="719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333600" y="2639880"/>
                    <a:ext cx="77328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4584240" y="2846520"/>
            <a:ext cx="21848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equation of 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97920" y="3618000"/>
            <a:ext cx="24148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adient of AB (perp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7288200" y="3394080"/>
          <a:ext cx="966960" cy="7192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288200" y="3394080"/>
                    <a:ext cx="96696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474840" y="4416480"/>
            <a:ext cx="66182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gradient and mid-point to obtain perpendicular bisector 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765600" y="5075280"/>
          <a:ext cx="1641600" cy="4222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765600" y="5075280"/>
                    <a:ext cx="164160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7" name="" descr=""/>
          <p:cNvPicPr/>
          <p:nvPr/>
        </p:nvPicPr>
        <p:blipFill>
          <a:blip r:embed="rId16"/>
          <a:stretch/>
        </p:blipFill>
        <p:spPr>
          <a:xfrm>
            <a:off x="5900760" y="674640"/>
            <a:ext cx="275580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170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>
            <a:hlinkClick r:id="" action="ppaction://hlinkshowjump?jump=nextslide"/>
            <a:hlinkClick r:id="rId2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previousslide"/>
            <a:hlinkClick r:id="rId3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611440" y="6012000"/>
            <a:ext cx="423720" cy="3999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937160" y="63770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 Narrow"/>
              </a:rPr>
              <a:t>Table of exact val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9280" y="667800"/>
            <a:ext cx="6057720" cy="18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ine AB makes an angle of         radians with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-axis, as shown in the diagra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499"/>
              </a:spcBef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he exact value of the gradient of AB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37760" y="2847960"/>
            <a:ext cx="37058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ngle between AB and x-ax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7"/>
          <a:stretch/>
        </p:blipFill>
        <p:spPr>
          <a:xfrm>
            <a:off x="5251320" y="4424400"/>
            <a:ext cx="619200" cy="619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5" name=""/>
          <p:cNvGraphicFramePr/>
          <p:nvPr/>
        </p:nvGraphicFramePr>
        <p:xfrm>
          <a:off x="4595760" y="2668680"/>
          <a:ext cx="1181160" cy="718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595760" y="2668680"/>
                    <a:ext cx="1181160" cy="71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449280" y="4546440"/>
            <a:ext cx="27302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able of exact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4210200" y="843120"/>
          <a:ext cx="306360" cy="738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210200" y="843120"/>
                    <a:ext cx="306360" cy="73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0" name="" descr=""/>
          <p:cNvPicPr/>
          <p:nvPr/>
        </p:nvPicPr>
        <p:blipFill>
          <a:blip r:embed="rId12"/>
          <a:stretch/>
        </p:blipFill>
        <p:spPr>
          <a:xfrm>
            <a:off x="6808680" y="803160"/>
            <a:ext cx="1938600" cy="1733760"/>
          </a:xfrm>
          <a:prstGeom prst="rect">
            <a:avLst/>
          </a:prstGeom>
          <a:ln w="0">
            <a:noFill/>
          </a:ln>
        </p:spPr>
      </p:pic>
      <p:grpSp>
        <p:nvGrpSpPr>
          <p:cNvPr id="191" name=""/>
          <p:cNvGrpSpPr/>
          <p:nvPr/>
        </p:nvGrpSpPr>
        <p:grpSpPr>
          <a:xfrm>
            <a:off x="393840" y="3654360"/>
            <a:ext cx="1866240" cy="372960"/>
            <a:chOff x="393840" y="3654360"/>
            <a:chExt cx="1866240" cy="372960"/>
          </a:xfrm>
        </p:grpSpPr>
        <p:sp>
          <p:nvSpPr>
            <p:cNvPr id="192" name=""/>
            <p:cNvSpPr/>
            <p:nvPr/>
          </p:nvSpPr>
          <p:spPr>
            <a:xfrm>
              <a:off x="393840" y="3659040"/>
              <a:ext cx="1866240" cy="368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e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3" name=""/>
            <p:cNvGraphicFramePr/>
            <p:nvPr/>
          </p:nvGraphicFramePr>
          <p:xfrm>
            <a:off x="1035000" y="3654360"/>
            <a:ext cx="1055520" cy="3081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94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35000" y="3654360"/>
                      <a:ext cx="1055520" cy="30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95" name=""/>
          <p:cNvGraphicFramePr/>
          <p:nvPr/>
        </p:nvGraphicFramePr>
        <p:xfrm>
          <a:off x="2592360" y="3465360"/>
          <a:ext cx="1181160" cy="719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592360" y="3465360"/>
                    <a:ext cx="118116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3549600" y="4340160"/>
          <a:ext cx="944640" cy="7668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549600" y="4340160"/>
                    <a:ext cx="94464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934600" y="2846520"/>
            <a:ext cx="309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x and y axes are perpendicula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202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>
            <a:hlinkClick r:id="" action="ppaction://hlinkshowjump?jump=nextslide"/>
            <a:hlinkClick r:id="rId2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>
            <a:hlinkClick r:id="" action="ppaction://hlinkshowjump?jump=previousslide"/>
            <a:hlinkClick r:id="rId3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449280" y="906480"/>
            <a:ext cx="6057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riangle ABC has vertices A(4, 3), B(6,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(–2, –3) as shown in the diagra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he equation of AM, the median from 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35960" y="2847960"/>
            <a:ext cx="23248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mid-point of B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5"/>
          <a:stretch/>
        </p:blipFill>
        <p:spPr>
          <a:xfrm>
            <a:off x="5506920" y="4397400"/>
            <a:ext cx="619200" cy="619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5" name=""/>
          <p:cNvGraphicFramePr/>
          <p:nvPr/>
        </p:nvGraphicFramePr>
        <p:xfrm>
          <a:off x="3287880" y="2882880"/>
          <a:ext cx="730080" cy="370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87880" y="2882880"/>
                    <a:ext cx="730080" cy="3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450000" y="4546440"/>
            <a:ext cx="30337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equation of median 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8760" y="3659040"/>
            <a:ext cx="32716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gradient of median 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4041720" y="3651120"/>
          <a:ext cx="730440" cy="3715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041720" y="3651120"/>
                    <a:ext cx="73044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4040280" y="4551480"/>
          <a:ext cx="1095120" cy="3715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040280" y="4551480"/>
                    <a:ext cx="109512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3" name="" descr=""/>
          <p:cNvPicPr/>
          <p:nvPr/>
        </p:nvPicPr>
        <p:blipFill>
          <a:blip r:embed="rId12"/>
          <a:stretch/>
        </p:blipFill>
        <p:spPr>
          <a:xfrm>
            <a:off x="6076800" y="851040"/>
            <a:ext cx="254016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226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>
            <a:hlinkClick r:id="" action="ppaction://hlinkshowjump?jump=nextslide"/>
            <a:hlinkClick r:id="rId2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" action="ppaction://hlinkshowjump?jump=previousslide"/>
            <a:hlinkClick r:id="rId3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4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449280" y="908280"/>
            <a:ext cx="6057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(–4, 5), Q(–2, –2) and R(4, 1) are the vert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triangle PQR as shown in the diagra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he equation of PS, the altitude from P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64360" y="2847960"/>
            <a:ext cx="22366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gradient of Q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5"/>
          <a:stretch/>
        </p:blipFill>
        <p:spPr>
          <a:xfrm>
            <a:off x="6442200" y="4397400"/>
            <a:ext cx="618840" cy="619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9" name=""/>
          <p:cNvGraphicFramePr/>
          <p:nvPr/>
        </p:nvGraphicFramePr>
        <p:xfrm>
          <a:off x="3905280" y="2681280"/>
          <a:ext cx="685800" cy="716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05280" y="2681280"/>
                    <a:ext cx="68580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"/>
          <p:cNvSpPr/>
          <p:nvPr/>
        </p:nvSpPr>
        <p:spPr>
          <a:xfrm>
            <a:off x="878400" y="4546440"/>
            <a:ext cx="29833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equation of altitude 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57160" y="3659040"/>
            <a:ext cx="4464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gradient of PS (perpendicular to Q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5676840" y="3651120"/>
          <a:ext cx="924120" cy="3715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676840" y="3651120"/>
                    <a:ext cx="92412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4513320" y="4565520"/>
          <a:ext cx="1438200" cy="3715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513320" y="4565520"/>
                    <a:ext cx="143820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7" name="" descr=""/>
          <p:cNvPicPr/>
          <p:nvPr/>
        </p:nvPicPr>
        <p:blipFill>
          <a:blip r:embed="rId12"/>
          <a:stretch/>
        </p:blipFill>
        <p:spPr>
          <a:xfrm>
            <a:off x="6086520" y="811080"/>
            <a:ext cx="2625840" cy="21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31T14:02:10Z</dcterms:created>
  <dc:creator>Derek Warburton</dc:creator>
  <dc:description/>
  <dc:language>en-US</dc:language>
  <cp:lastModifiedBy>Derek Warburton</cp:lastModifiedBy>
  <dcterms:modified xsi:type="dcterms:W3CDTF">2004-05-17T20:36:38Z</dcterms:modified>
  <cp:revision>107</cp:revision>
  <dc:subject/>
  <dc:title>PowerPoint Presentation</dc:title>
</cp:coreProperties>
</file>